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0949-5909-445A-BEAC-5922872D9E78}" type="slidenum">
              <a:rPr b="0" lang="sr-Latn-R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CFDA-880E-4FA5-B285-1ADA0A05D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F6FA-6D73-4D5B-B4E7-0421B2471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8A5C-B41B-42D7-8563-0830A345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276B-0E34-4DC8-B341-33685C3EF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13DE-9D84-46C6-A752-7E4764712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C11E-0109-4E0C-A6D8-ACA333587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E1F1-554E-4B25-A15D-AE305A54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4B59-45C0-4BEB-A2F4-B4B264B4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2B4A-9D42-4991-8129-9679379B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5916-6244-4AB5-B1D4-4009525E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5E7E-306C-405A-94A9-6DCE8CC8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5229-5416-41BD-B411-E8296B9B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F6CC-DCF9-4311-BDBB-53B94083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C618-B30A-49E4-95CF-9319E1AD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32F6-4962-4597-AEF4-705FB3AB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B97F-6514-459D-94D9-C6FF7B96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F9A6-1327-400F-BD90-83BEB862C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DB41-9025-4B47-A75A-71CD3A787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CC93D-38D4-4A14-AD30-72BFA691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04649-35B2-4CD0-9901-1D5DD9F5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31065-A029-4F5E-BF1B-3E470E39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B3E20-2976-4D37-A6B6-DE0323A7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5F427-DFBA-4963-960F-C8D175F1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A262-EC27-42E8-A57D-08CCBDED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CF2A7-B677-4BC5-B318-4C82748C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8A5D3-F959-462D-B62C-F22E47F2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B4E05-0D56-4C45-A934-0BB723F2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16A2B-9C4B-49A4-9DD8-55D9D392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12C95-3EA8-4B8D-B4BC-08EB14F4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A4988-62B5-4760-99D7-FDE6D1F62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06FCD-C0F3-4A1B-A58E-B80266543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0A50A-C1CE-461C-9715-B7F9FB8B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A7B3D-2CA0-4714-BCC8-B3579C41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16818-AAF1-46FC-A01D-98F34632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076C-7CA9-40A9-82E3-F30A6F03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78BC3-6A0A-424C-8ECF-B26EC5B3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BAA75-2FCF-42A1-A025-D9CEEB39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FB730-59B2-4B1B-88BD-42466C95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634ED-7784-4E7E-9F30-B0317A24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306BA-E33C-473A-9C69-5A8377DA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D45F7-D813-4763-8A49-5586F0F2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78A1E-6235-4454-B2EB-921C8973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7D24B-6DAA-47DA-AD32-BC83DB898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DC24D-A71A-45A7-B7D2-791714A6D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A6FE-265E-493B-9D0E-1331CE7E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CC7F-954B-495F-941B-8F9687CE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9E3B-B1A0-4F3C-851E-2ACFC845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A386-972E-4D29-A454-322B7E4C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45E6-6FC4-4DF8-906C-5FA97634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EA76-28F5-4B63-90DF-7D58D573CF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BC7E-0218-4599-B22F-3ED4A7E89A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96EE-A36F-4B01-8EAA-DBC42EC28A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4F3C-9E40-4E77-A409-50978ED9FA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9"/>
          <p:cNvSpPr/>
          <p:nvPr/>
        </p:nvSpPr>
        <p:spPr>
          <a:xfrm>
            <a:off x="357120" y="1214280"/>
            <a:ext cx="835812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Хигијена раста и развоја, школска хигијена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хигијена ра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Хигијена и екологиј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дванаеста недеља настав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280" y="188640"/>
            <a:ext cx="828036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церални разво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пираторни систем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рдиоваскуларни систе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 развој респираторног система настаје тек по завршетку пуберте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убертета сва деца абдоминално диш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пуберте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ојчице дишу горњокосталним тип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чаци дишу доњокосталним тип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диоваскулар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3 и 4 години живота величина срца се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струч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није се раст срца успорава и у телу одраслог човека се налази “дечије срце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53000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39280" y="571680"/>
            <a:ext cx="820908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и раст и разво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иод у коме су поодмакли процеси антропометријског и висцералног раста и развоја и када се стичу особине које омогућавају репродукцију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а манифестација овог раста је пуберт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24000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95280" y="213840"/>
            <a:ext cx="842472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</a:t>
            </a:r>
            <a:r>
              <a:rPr b="1" lang="sr-Latn-R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ке карактеристике пубертета: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 сексуалних функција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е физичке особ</a:t>
            </a:r>
            <a:r>
              <a:rPr b="0" lang="sr-R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о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 на психу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 на обољевање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9280" y="714240"/>
            <a:ext cx="8209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ке карактеристике пубертета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е физичке особ</a:t>
            </a:r>
            <a:r>
              <a:rPr b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о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ација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лас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клад између статуралног и пондералног рас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карличних костиј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 на псих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израженији је поремећај пажњ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26000"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 раста и развоја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ни поремећа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04920" y="785880"/>
            <a:ext cx="861048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интензивниј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утерин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о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чно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г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ћег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шк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б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ечно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0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ских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ђенч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гачко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2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шко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.4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м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5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м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дног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бух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ечно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м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купн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и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ој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ј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отежењ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атометријских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јчиц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чак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 раста и разво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262626"/>
                </a:solidFill>
                <a:latin typeface="Times New Roman"/>
              </a:rPr>
              <a:t>Поремећаји ра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523880"/>
            <a:ext cx="8074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могу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настати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у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 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ген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e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тски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условљеним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болестима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 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порем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e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ћајима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исхране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 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хроничним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об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o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љењима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 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ендокрин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i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м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об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o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љењима,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 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у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непов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o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љним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социјалним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и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психоемоционалним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  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порем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e</a:t>
            </a:r>
            <a:r>
              <a:rPr b="0" lang="sr-RS" sz="3200" spc="-1" strike="noStrike">
                <a:solidFill>
                  <a:srgbClr val="262626"/>
                </a:solidFill>
                <a:latin typeface="Times New Roman"/>
              </a:rPr>
              <a:t>ћајима</a:t>
            </a:r>
            <a:r>
              <a:rPr b="0" lang="sl-SI" sz="3200" spc="-1" strike="noStrike">
                <a:solidFill>
                  <a:srgbClr val="26262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 статуралног рас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низам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Поремећај статуралног раста у виду намизма или тзв. патуљасти раст, представља одступање од нормалног за 15-20%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нтензивни неуроендокрини преображај, уз инсуфицијенцију хипофизе, представљају основу овог обољењ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ете треба упутити код ендокринолога да би се утврдили детаљни дијагностички поступци и отклонили могуди узроц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ЕФИНИЦ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хигијена је научна дисциплина која се бави проучавањем психофизичких карактеристика школске деце и омладине и услова њиховог живота и рада у шко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деца и омладина чине око 20% укупног становниш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5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796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796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796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0" y="428760"/>
            <a:ext cx="8763120" cy="620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Џиновски раст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Већи статурални раст до 20% од нормалне висине означава појаву тзв. џиновског раст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на је праћена и одговарајућим психичким поремећајима, пре свега, инфантилизм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ршавост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 препубертетском периоду може се јавити поремећај пондералног развоја као последица интензивних преображаја, пролазног је каракте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оследње време код деце могу бити присутни тежи поремећаји пондералног развоја, изражени кроз анорексију и булимиј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ци анорексије и булимије су многоструки, али су углавном психичке и биолошке природ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 пондералног рас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јазност. - Промена у пондералном расту може да буде праћена и одступањем од телесне тежине и појавом гојазности. Узроци гојазности су многоброј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к треба имати у виду генетску предиспозицију, али и друге психосоцијалне чиниоце који доводе до могућег „бега” у хра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зивни развојни поремећај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ш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јалн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хејвиоралном функционисањ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никациј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д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раја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изам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др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r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др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sperger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дром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из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акв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циј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никациј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вљајућ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сц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шањ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измо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ј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вљајућег понашањ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еотипија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ет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рх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т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пкањ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ам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тењ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о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улјањ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о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етањ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јир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улзивно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шање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виј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рно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им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гањ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о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ликост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ор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биј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ин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ој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њ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уално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шање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ђењ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их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к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и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ом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о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шање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лик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окупљеност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чком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оагресија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ључуј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дит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хејвиорал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активн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конвулзив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депресив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психотиц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isperido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61048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Rett-ov sindr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имптоми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вог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индрома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мешају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имптомима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утизма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Главне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арактеристике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Микроцефалија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(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спорава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е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аст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бима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главе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Ментална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етардац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тереотипни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кре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облеми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оцијализациј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такс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Епилепсија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(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од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70% 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болелих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sr-Latn-CS" sz="2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Heller-ov sindro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арактерише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астојима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азвоју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јез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ремећају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оцијалних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функц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ремећају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моторних</a:t>
            </a:r>
            <a:r>
              <a:rPr b="0" lang="sr-Latn-C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пособ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ада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ије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онађен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зрок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вог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ремећаја који се ретко јавља.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ма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еке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личности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утизмом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.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азликује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томе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што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јавља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деце</a:t>
            </a:r>
            <a:r>
              <a:rPr b="1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оја</a:t>
            </a:r>
            <a:r>
              <a:rPr b="1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у</a:t>
            </a:r>
            <a:r>
              <a:rPr b="1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до</a:t>
            </a:r>
            <a:r>
              <a:rPr b="1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тада</a:t>
            </a:r>
            <a:r>
              <a:rPr b="1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м</a:t>
            </a:r>
            <a:r>
              <a:rPr b="1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</a:t>
            </a:r>
            <a:r>
              <a:rPr b="1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л</a:t>
            </a:r>
            <a:r>
              <a:rPr b="1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 </a:t>
            </a:r>
            <a:r>
              <a:rPr b="1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</a:t>
            </a:r>
            <a:r>
              <a:rPr b="1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o</a:t>
            </a:r>
            <a:r>
              <a:rPr b="1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м</a:t>
            </a:r>
            <a:r>
              <a:rPr b="1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</a:t>
            </a:r>
            <a:r>
              <a:rPr b="1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л</a:t>
            </a:r>
            <a:r>
              <a:rPr b="1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</a:t>
            </a:r>
            <a:r>
              <a:rPr b="1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</a:t>
            </a:r>
            <a:r>
              <a:rPr b="1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</a:t>
            </a:r>
            <a:r>
              <a:rPr b="1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</a:t>
            </a:r>
            <a:r>
              <a:rPr b="1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в</a:t>
            </a:r>
            <a:r>
              <a:rPr b="1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o</a:t>
            </a:r>
            <a:r>
              <a:rPr b="1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ј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,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д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o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a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тиз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м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исут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o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д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o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ђењ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.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т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њ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e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e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виј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3.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4.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г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o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дини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жив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o</a:t>
            </a:r>
            <a:r>
              <a:rPr b="0" lang="sr-R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т</a:t>
            </a:r>
            <a:r>
              <a:rPr b="0" lang="sr-Latn-C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.</a:t>
            </a:r>
            <a:r>
              <a:rPr b="0" lang="en-U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82868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sr-Latn-CS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sperger-ov sindr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арактерише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тешкоћама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оцијалној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нтеракцији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граниченим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,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тереотипним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нашањем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вај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индром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азликује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сталих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ремећаја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пектра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утизма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томе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што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lang="sr-RS" sz="2800" spc="-1" strike="noStrike" u="sng">
                <a:solidFill>
                  <a:srgbClr val="262626"/>
                </a:solidFill>
                <a:uFillTx/>
                <a:latin typeface="Times New Roman"/>
                <a:ea typeface="Times New Roman"/>
              </a:rPr>
              <a:t>нема</a:t>
            </a:r>
            <a:r>
              <a:rPr b="1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астоја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азвоју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језика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огнитивном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азвоју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sperger-ov sindrom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добио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ме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o Hansu Aspergeru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1944.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године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писао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децу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оја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мала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ормалну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нтелигенцију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,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и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м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едостајала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ештина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евербалне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омуникације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,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физички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била неспретна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казивала су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емпатију</a:t>
            </a:r>
            <a:r>
              <a:rPr b="0" lang="sr-Latn-C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шњака</a:t>
            </a:r>
            <a:r>
              <a:rPr b="0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социјалном</a:t>
            </a:r>
            <a:r>
              <a:rPr b="0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у</a:t>
            </a:r>
            <a:r>
              <a:rPr b="0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тицањ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јалн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ције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р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шке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ужањ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оционалн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урност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м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јално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сним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јама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р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н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ћањ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скости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ужањ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меравања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ужањ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ћањ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падности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ужањ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врсну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ациј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ринос</a:t>
            </a:r>
            <a:r>
              <a:rPr b="0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шњачких</a:t>
            </a:r>
            <a:r>
              <a:rPr b="0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а</a:t>
            </a:r>
            <a:r>
              <a:rPr b="0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рино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социјално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рино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ектуално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39280" y="785520"/>
            <a:ext cx="820908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љења школске деце и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лади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азна обољења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разна обољења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а обољења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3000"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ЗАРАЗНЕ БОЛЕ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ца школског узраста често болују од акутних и хроничних заразних боле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ници заразних болести се шире различитим путевим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аздух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идричним пут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гађеном хран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сектима који преносе узрочни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ректним контактом са болесном особ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дметима болесне особ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деца и млади представљају најрањивију категорију становништва, али истовремено дине и највећи биолошки потенцијал друштв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ца од 7. до 14. годин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олесценти од 15. до 18. године 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и од 19. до 25. год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ЗАРАЗНЕ БОЛЕ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39280" y="1628640"/>
            <a:ext cx="5761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ирусне боле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bi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bel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cel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otit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patit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onukleo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3851280" y="1643040"/>
            <a:ext cx="52927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Бактеријске боле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reptokokne i stafilokokne infek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ening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ifus, paratif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ertu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3000">
    <p:push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9280" y="1142640"/>
            <a:ext cx="576108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olesti ra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niz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žinovski ra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ršav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jaz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foz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olioz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rdoz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rmiteti donjih ekstremite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op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emećaji slu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emećaji vida(hipermetropija, miopija, astigmatizam, strabizam, daltoniza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4572000" y="1214280"/>
            <a:ext cx="4140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oremećaji organa i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oljenja K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emećaji i anomalije genitalnog apar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buminur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ergijske bole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pileps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jabe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erg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НЕЗАРАЗНЕ БОЛЕ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0000">
    <p:push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НЕЗАРАЗНЕ БОЛЕ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99680" y="1500120"/>
            <a:ext cx="5761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remećaji govora, čitanja i pisa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can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leks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5076720" y="1989000"/>
            <a:ext cx="3851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omalije psihičkog razvo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uro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siho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emećaji lič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ciopat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push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9640" y="1213920"/>
            <a:ext cx="813600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žne bole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b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matomiko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tigo contagio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šljiv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zitarne bole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Е БОЛЕ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20000">
    <p:push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 ризика из школске средине </a:t>
            </a:r>
            <a:r>
              <a:rPr b="1" lang="sr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утицајем</a:t>
            </a:r>
            <a:r>
              <a:rPr b="1" lang="sr-Latn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1" lang="sr-Latn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ље деце и омладин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39640" y="1000080"/>
            <a:ext cx="81360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Школска згра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чион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мештај и прибор за ра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светље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анитарни чв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Хигијена наста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20000">
    <p:push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39640" y="404640"/>
            <a:ext cx="813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ЗГРА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да се за најмање 20 до 30 годи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градњи школске зграде битно је обратити пажњу 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цију и положај објект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љишт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цију зград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 просториј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ци до школе не треба да пешаче дуже од 2km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егавати просторе са много брда и јаким ветровим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љеност од суседних зграда мора да буде најмање до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m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љеност од главних саобраћајница најмање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m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63000">
    <p:push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9640" y="1628640"/>
            <a:ext cx="8136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љиште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о, суво, оцедно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земне воде највиш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m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 површи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 повезивања на централни водовод и канализацију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јектовати простор тако да по ученику буде најмање 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R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да око школског земљишта од ниског дрвећа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-528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ШКОЛСКА ЗГРА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36000">
    <p:push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611280" y="692280"/>
            <a:ext cx="7921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4560" y="115560"/>
            <a:ext cx="910908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цијa згра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дорски тип градње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fr-L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једне стране ходници са друге учионице или са две стране учионице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ници 2,5 до 4m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боља оријентација учионица у нашим условима југ-југоисток, ходника и санитарних просторија север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6000">
    <p:push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18900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 простор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они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а за наставнике (зборниц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дероб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кухи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бинети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к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ја и др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ла за физичко васпит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скултурна са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и чв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би учионица била функционална неопходно је да</a:t>
            </a:r>
            <a:r>
              <a:rPr b="0" lang="sr-Latn-R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ученичких места не буде већи од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мензије буду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x7x4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мун простора је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учени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ори дуж леве стране учен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дови боје слонове кости (није пожељно вешати слике и графиконе због прашине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фон беле бо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: паркет/ линолеум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а акустичном, топлотном  изолациј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ШТАЈ И ПРИБОР ЗА РА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клуп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боље је када један ученик седи у једној клупи, а између клупа је размак 10c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ти за квалификациј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ина седиш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 је да висина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ице треба да износи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8% ТВ учени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бина седиш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 је да дубина седишта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носи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% </a:t>
            </a:r>
            <a:r>
              <a:rPr b="0" lang="fr-L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 ученика или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/3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ужине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коленице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АНЦ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анца је растојање између вертикале спуштене са предње ивице стола и предње ивице столице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 бит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када је седиште одмакнуто од стол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ликом стајањ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ив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када је седиште подвучено под ст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ликом писања, читањ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лта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вертикала повучена са ивице стола пада тачно на ивицу столиц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иликом слушања предавањ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ЕРЕНЦ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еренца је вертикално растојање између предње ивице стола и столице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се среће диференца која је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% ТВ дечака и17% ТВ девојчица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ед неодговарајуће диференце постоји могућност настанка деформитета кичменог стуба и замора мишића услед неправилног положаја уче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7100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школовањ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 је нова заједница којој дете треба да се прилагоди, да промени свој дотадашњи надин живота, да сазна нешто ново, да се оформи као личност која ће касније испуњавати животне и професионалне обавез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а школовањ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 је обезбедити стабилно окружење за правилан психофизички и социјални развој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fr-L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L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таб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fr-L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fr-L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тка, равна, без пукотина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љена 90cm од пода, а 2m од првих клупа, 1,5m од катедре наставника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е или зелене боје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fr-L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боље би било да је бела на којој се пише црном кредом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ксирана (већих димензија) или покретна (мањих димензија)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ЕТЉЕЊЕ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39640" y="1758960"/>
            <a:ext cx="8136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осветљењ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штачк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непосред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ред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27000">
    <p:push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о осветље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39640" y="1268280"/>
            <a:ext cx="8136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упадно светло од дневне светлости Сунца и светло одбијено од зидова суседних зграда и површина у учиониц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ни угао или угао неба треба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 такав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сваки ученик види бар 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б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ори би требало да су од брушеног чистог стак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љави прозори смањују осветљенос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24000">
    <p:push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Rectangle 4" descr=""/>
          <p:cNvPicPr/>
          <p:nvPr/>
        </p:nvPicPr>
        <p:blipFill>
          <a:blip r:embed="rId1"/>
          <a:stretch/>
        </p:blipFill>
        <p:spPr>
          <a:xfrm>
            <a:off x="487440" y="66600"/>
            <a:ext cx="8192880" cy="5889600"/>
          </a:xfrm>
          <a:prstGeom prst="rect">
            <a:avLst/>
          </a:prstGeom>
          <a:ln w="0">
            <a:noFill/>
          </a:ln>
        </p:spPr>
      </p:pic>
    </p:spTree>
  </p:cSld>
  <p:transition advTm="17000">
    <p:push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611280" y="692280"/>
            <a:ext cx="7921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штачко осветљењ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9640" y="856800"/>
            <a:ext cx="81360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Непосредно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иректно) </a:t>
            </a:r>
            <a:r>
              <a:rPr b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штачко осветљењ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осветљење које се простире директно одозго на доле. Није подесно за учионице, јер ствара оштре сенк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Полунепосредно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лудиректно)</a:t>
            </a:r>
            <a:r>
              <a:rPr b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штачко оветљењ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осветљење чији се део простире директно према доле, а део према плафону. Погодно је за читање и писање, јер даје меке сенк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Посредно 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ндиректно) </a:t>
            </a:r>
            <a:r>
              <a:rPr b="1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штачко осветљењ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осветљење које се простире према плафону. Погодно је за читање и писање, јер не даје сенке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-1182600" y="3704760"/>
            <a:ext cx="84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9000">
    <p:push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кро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м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ски услов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дну (способност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ика, њихов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држљивост, процес терморегулације и појав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мора мо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ати ос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ни микроклиматски ус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и, темпе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ура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т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духа, кретање ваздуха топлотно зраче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о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микро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ски услови треба да пре свега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могуће нормалне терморегулационе процесе у организмима деце и младих, као и друге активнос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нтилација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њ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57120" y="1428840"/>
            <a:ext cx="832968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травањем (вентилацијом) просторије уклањују се суви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лага, топлота или аерозага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ње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нтилација може бити природна и вештачк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њ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ра да траје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ко месеци, с обзиром на наше климатске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е. С обзиром да се у просторији најпре загревају зидови, собна температура највише зависи од квалитета зидова и величине просториј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рационалнији начин грејања јесте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трал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греја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ваздуха у у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ици треба да се из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и око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°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бдевање вод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ан од битних елемената за о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ње и унапређење здравља у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ика у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 јесте добра снабдевеност хигијенски исправном водом за пиће. Ако је вода неисправна, може доћи до цревних заразних боле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бдевање водом мо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бити преко централног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лног водов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олошку и хемијску исправност воде треба редоврио контролиса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и објек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и објекти у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 треба да буду прописно саграђени и да испуњавају хигијенске норм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санитарни објекти у школи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а да буду сме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ни на крају ходника или у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ном делу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е, даље од у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ица, са претпростором за прање рук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кухињ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кухиња је стандардни објекат савремене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е, посебно основ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кухињу треба да чине чајна кухиња и трпезарија. Треба да буду смештене у приземљу зград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је у нашој средини организована на два н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 - као школски допунски оброк (у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)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мерен да коригује и допуни постојећу пород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 исхрану и да надокнади енергетски расход настао током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ских активност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као исхрана у продуженом или целодневном боравк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циљеви школске хигијен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 школовања може доћи до маладаптације, поремећаја сна, појаве умора, губитка апетита, агресивности, болова у трбуху. Нису ретки и рани емоционални поремећаји изазвани привременим губитком осећања сигурности и повластица које је пружала породиц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о је један од основних циљева Школске хигијене помоћ у адаптацији детета на услове школског систе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рана у школ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постој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упљеност свих нутријена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нирана и добро организована колективна исхрана може да допринесе, правилном пси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зидком развоју детета Тако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може да буде значајан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илац у превенцији обољења и стања, која се јављају као последица неадекватне исхра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ичкa активнос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рха физичке активности јесте правилан психофизи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 разво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стизање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р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њ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тималне кондиције и подизање одбранбени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способнос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ганизма,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 се пости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и превенција обољењ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а функција физичког васпитања усмерена је првенствено на развој моторичких способности и навика, али се истовремено, поред постизања снаге, издр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ивости, остварују и друге функције организма.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ти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 раст и развој, ути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на правилно др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ње тела и спре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 настанак постуралних пореме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ја и деформитет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а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ц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ло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више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е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и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илагођен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вољно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чу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КЕ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MS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00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ц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sr-Latn-CS" sz="3200" spc="-1" strike="noStrike" u="sng">
                <a:solidFill>
                  <a:srgbClr val="558ed5"/>
                </a:solidFill>
                <a:uFillTx/>
                <a:latin typeface="Times New Roman"/>
                <a:ea typeface="Times New Roman"/>
              </a:rPr>
              <a:t>60 </a:t>
            </a:r>
            <a:r>
              <a:rPr b="1" lang="sr-RS" sz="3200" spc="-1" strike="noStrike" u="sng">
                <a:solidFill>
                  <a:srgbClr val="558ed5"/>
                </a:solidFill>
                <a:uFillTx/>
                <a:latin typeface="Times New Roman"/>
                <a:ea typeface="Times New Roman"/>
              </a:rPr>
              <a:t>мин</a:t>
            </a:r>
            <a:r>
              <a:rPr b="1" lang="sr-Latn-CS" sz="3200" spc="-1" strike="noStrike" u="sng">
                <a:solidFill>
                  <a:srgbClr val="558ed5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мереног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R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тензитета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реациј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олесцент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sr-Latn-CS" sz="3200" spc="-1" strike="noStrike" u="sng">
                <a:solidFill>
                  <a:srgbClr val="558ed5"/>
                </a:solidFill>
                <a:uFillTx/>
                <a:latin typeface="Times New Roman"/>
                <a:ea typeface="Times New Roman"/>
              </a:rPr>
              <a:t>3 x 20 </a:t>
            </a:r>
            <a:r>
              <a:rPr b="1" lang="sr-RS" sz="3200" spc="-1" strike="noStrike" u="sng">
                <a:solidFill>
                  <a:srgbClr val="558ed5"/>
                </a:solidFill>
                <a:uFillTx/>
                <a:latin typeface="Times New Roman"/>
                <a:ea typeface="Times New Roman"/>
              </a:rPr>
              <a:t>мин</a:t>
            </a:r>
            <a:r>
              <a:rPr b="1" lang="sr-Latn-CS" sz="3200" spc="-1" strike="noStrike" u="sng">
                <a:solidFill>
                  <a:srgbClr val="558ed5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жбањ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соког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R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тензитет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жб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чањ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ић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тиј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р за наставу физичког васпитањ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р за наставу физичког васпитања може бити отвореног и затвореног тип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се као отворени простор за ве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ње користи школско двориш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ла за физичку култур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опходно je да физичка активност деце буде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тинуирана, током целе године, ва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је да свак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а има и салу за физичку културу. Сала треба да буде у приземљу или у посебном крилу зград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68360" y="188640"/>
            <a:ext cx="82072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теви за организацију наставе и учењ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так наставе у првом разреду од 9 сати, а касније од 8 сат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ће задатке не треба давати деци испод 10 годи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море давати после сваког часа и то тако да после сваког часа буде одмор од 10 мин, осим после 3 часа када одмор треба да траје 30 мин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е распоредити тако да на почетку наставе буду средње тешки предмети, потом тешки, а на крају лаки предме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-1182600" y="3704760"/>
            <a:ext cx="84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2000">
    <p:push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39640" y="642960"/>
            <a:ext cx="8136000" cy="53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ти наставе штетни по здравље ученика с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ектуална преоптерећенос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клад између редовне физичке развијености ученика и захтева рада у школ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клад између интелектуалног узраста ученика и метерије која се предај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-1182600" y="3704760"/>
            <a:ext cx="84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6000">
    <p:push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ГИЈЕНА РА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гијена рада је превентивна медицинска грана у оквиру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гијене 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  на бази научних сазнања, практичних мера и поступака обезбеђује високу радну способност и спречава настанак професионалних обољења и других оштећења здравља везаних за радни проце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обухвата човека појединца  и  групе  радника  у  радном  процесу,  на радном месту и у амбијенту у коме се рад одвиј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ваљујући развоју науке и технике у многим привредним гранама напоран физички рад је све мање заступљен, али се зато повећало психичко оптерећење радника и потреба за одређеним знањем и навикама, што  се  претходно  мора  обезбедити  школовањем радни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би одређене послове могао обављати успешно и безбедно, радник мора поседовати посебне психофизичке особине. Зато се у оквиру хигијене рада развијала професионална оријентација и селекција као превентивна гра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342720"/>
            <a:ext cx="8686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РАКТЕРИСТИКЕ РАСТА И РАЗВО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39280" y="1628640"/>
            <a:ext cx="8280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Психички разво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Физички развој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push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карактер рада и радна средина имају негативни утицај на здравље и радну способност запослених, то значе да постоје професионални штетни фактори у радној средини. Као професионално </a:t>
            </a: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етни фактори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ред </a:t>
            </a: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их, хемијских и билошких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јављају се и  </a:t>
            </a: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ни  други  чиниоци  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 нарушавајући  ко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  у радном процесу, доводе до промене здравственог стања и радне способности. Ту спадају нерационална организација рада и одмора, неповољни психосоцијални односи у колективу, неадекватна исхрана, неповољна дужина радног времена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ц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ивање,  идентификација  и  квантификација  </a:t>
            </a: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их, хеми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</a:t>
            </a: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их и биолошких фактора у радној средини и њихова евалуација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алуација других фактора </a:t>
            </a: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а рада и радне средине који делују на организам као стесори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ње  мера  за  побољшавање  услова  </a:t>
            </a: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  и смањивање ризика од настанка професионалних обољења и повреда на раду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вање  и   предлагање   мера   за   обезбеђење физиолошких услова рада </a:t>
            </a: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оку радног процеса  уз прилагођавање   техничких   система   и   технологије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удским могућностима (ергономија рада  и  радне средине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си физичке природ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08000" y="1599840"/>
            <a:ext cx="885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агенсе физичке природе чије присуство у радној средини може штетно деловати на раднике спадај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ма и микроклим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 и снижен барометерски притисак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етљеност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развук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тразвук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брациј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јонизујуће зрачењ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изујуће зрачењ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ерозагађење (Хемијски неактивна прашина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чка сил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ична струј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им дејством у радној средини физички агенси могу   довести   до   повреда   на   раду   и   појаве</a:t>
            </a:r>
            <a:r>
              <a:rPr b="0" lang="sr-R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ионалних и других обољења везаних за рад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си биолошке природ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агенсе биолошке природе чије присуство у радној средини може штетно деловати на раднике спадај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ус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ј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љив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це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зо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лмин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и микроорганизми или њихови фрагменти могу изазвати професионална обољења или обољења везана за ра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дносу на домаћина, биолошки агенси могу би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i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огени</a:t>
            </a:r>
            <a:r>
              <a:rPr b="0" i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огу довести до инфекције и обољењ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i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ртунистички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огу изазвати инфекцију и обољење само када је смањена отпорност домаћи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i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атогени</a:t>
            </a:r>
            <a:r>
              <a:rPr b="0" i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Изазивају  само  колонизацију  која  не штети домаћин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си хемијске природ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о хемиских материја на организам запослених најчешће се среће у хемијској индустрији, рударству, машиноградњи, нафтној индустрији, гумарству и д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е  материје  које  унете  у  организам  у малим   количинама   изазивају   хеми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е   и   физичко-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е  реакције  са  ткивом  називају  се  отрови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м   отровности   је   релативан   јер   практично   све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е  материје  у  одређеним  условима  и  околно- стима могу бити отров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оизводном процесу отровност могу показивати  сировине,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продукти,  готови  производи  и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адне материј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и агенси који штетно делују на раднике могу бити у чврстом, течном и гасовитом стању, а према пореклу могу бити органске и неорганске природ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времено  присуство  различитих  фактора  радне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не може да доведе до њихове међусобне интеракције, овде се првенствено мисли на </a:t>
            </a:r>
            <a:r>
              <a:rPr b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цију физичких, хемијских и биолошких фактора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не средине (унутар исте или између различитих група). Интеракције се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одвијати у различитим медијумима, али су за медицину  рада  најзначајније интеракције које  се одвијају у ваздуху радне среди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sr-Latn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симално дозвољене дозе и концентрације (мдд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дк)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ДД и МДК су концентрације и дозе којима по досадашњим сазнањима, радници могу бити изложени </a:t>
            </a: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сати дневно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дана недељно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ком радног века, а да им здравље не буде угрожено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ДК и МДД су обично 2-3 пута мање од концентрација и доза које изазивају хронично обољењ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ДК и МДД за поједине штености су у неким земљама законски прописане и обавезујуће (европске земље укључујући и нас), док у другим прдстављају само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авезујуће 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поруке-САД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46836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овност материје највише зависи од концентрације и времена експозиције. У вези с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м разликујем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трационе отрове </a:t>
            </a:r>
            <a:r>
              <a:rPr b="0" i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ја отровност зависи претежно од концентрациј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о-концентрационе отрове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ија отровност зависи од времена експозициј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вакој етапи се води рачуна о заштити животне и радне средине 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збеђењу заштите на рад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граде могу да се граде по праволинијском и блок систему, да буду приземне или на спра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брички круг и саобраћајнице у њему треба да обезбеде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но одвијање саобраћаја и кретање пешак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пожељно је да постоје 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е површин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дмор и рекреацију радн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бдевање водо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талним грађевинским објектима мора се обезбедити водоводна мрежа за воду за пиће и за санитарне  потребе.  Ова  мрежа  се  прикључује  на градски водовод или на сопствени локални извор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ине са водом за пић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боље решење је да се вода за пиће узима помоћу   </a:t>
            </a: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гијенских   славина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у супротном  сваки  радник  би  морао  имати  своју посуд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ине не смеју да буду удаљене од радног места више од 100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у славину користи највише 60 радника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39280" y="642960"/>
            <a:ext cx="828036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 </a:t>
            </a: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ог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а и разво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ропометријски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 и развој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церални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вој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иолошки 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и развој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3000">
    <p:push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лањање отпадних материја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адне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е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мосферск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авине из круга предузећа могу се испуштати </a:t>
            </a:r>
            <a:r>
              <a:rPr b="1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градску  канализациону  мрежу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адне  техничке воде </a:t>
            </a:r>
            <a:r>
              <a:rPr b="1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 садрже оп</a:t>
            </a:r>
            <a:r>
              <a:rPr b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 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овне, агресивне, масне или  лако  запаљиве материје одводе се  посебнима канализациони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режама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тходно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чишћавање и неутрализацију 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осебну септичку јам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95280" y="907920"/>
            <a:ext cx="850752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просториј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 бити </a:t>
            </a: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ан, гладак 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 и клизав), израђен од материјал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и се </a:t>
            </a: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о чист</a:t>
            </a:r>
            <a:r>
              <a:rPr b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ер</a:t>
            </a:r>
            <a:r>
              <a:rPr b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постоји опасност од пожара под мора бит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незапаљивог материјала, а ако постоји опасност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ивања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ивних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калија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опустљивог   материјала   са   нагибом   према сливницим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дови просториј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дови радних просторија треба да буду добр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лотни и звучни изолатор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ази и степениш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иземним зградама најближи излаз не сме да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 удаљен од радног места више од 5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бјектима на спрат растојање од радног места до излазног степеништа не сме бити веће од 3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етљеност простор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 од захтева радног места према важећим стандардима. Предност увек има природно осветљењ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 застакљене површине и површине пода мора бити најмање </a:t>
            </a:r>
            <a:r>
              <a:rPr b="1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:8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179280" y="981000"/>
            <a:ext cx="8507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ревање и проветравање просториј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а    створи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ко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не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климатск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е 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ве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гађење на дозвољени ниво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травање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е бити </a:t>
            </a: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о и вештачко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хињски блок        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е храна комплетно припрема и дели, кухињски блок мора да задовољи све грађевинске и санитарнохигијенске захтеве који се односе на магацин сировина, кухињу и трпезариј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itre 1"/>
          <p:cNvSpPr/>
          <p:nvPr/>
        </p:nvSpPr>
        <p:spPr>
          <a:xfrm>
            <a:off x="468360" y="11592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Принцип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Espace réservé du contenu 2"/>
          <p:cNvSpPr/>
          <p:nvPr/>
        </p:nvSpPr>
        <p:spPr>
          <a:xfrm>
            <a:off x="0" y="1700280"/>
            <a:ext cx="91440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 безбедности и здравља на раду заснован је на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има превенциј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 повреда на раду, обољења или оштећења здравља запосленог, који се спроводе пре почетка рада на радном месту и у радној околи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беђивање таквих услова на раду којима се, у највећој могућој мери, смањују повреде на раду, професионална обољења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itre 1"/>
          <p:cNvSpPr/>
          <p:nvPr/>
        </p:nvSpPr>
        <p:spPr>
          <a:xfrm>
            <a:off x="468360" y="11592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Категорије на које се безбедност  односи  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Espace réservé du contenu 2"/>
          <p:cNvSpPr/>
          <p:nvPr/>
        </p:nvSpPr>
        <p:spPr>
          <a:xfrm>
            <a:off x="0" y="155736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сле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и и студенти на пракс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на стручном оспособљавању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на издржавању затворске казне која ту раде,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на добровољним и јавним радовим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која се затекну у радној околи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0" y="162828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сност и/или штетност на радном месту и у радној околини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св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тенцијалн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актор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радном месту и у радној околини који могу произвести повреду на раду или оштећење здравља запосленог"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itre 1"/>
          <p:cNvSpPr/>
          <p:nvPr/>
        </p:nvSpPr>
        <p:spPr>
          <a:xfrm>
            <a:off x="395280" y="18720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Препознавање и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тврђивање опасности и штетност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0" y="162828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знавање опасности и штетност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9280" indent="-449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рђивање опасности и штет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9280" indent="-449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на (евалуација) риз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9280" indent="-449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идентирање постојећих стања и мера, као и могућих додатних мера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9280" indent="-449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овна процена ризика након примењених        додатних ме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itre 1"/>
          <p:cNvSpPr/>
          <p:nvPr/>
        </p:nvSpPr>
        <p:spPr>
          <a:xfrm>
            <a:off x="395280" y="18720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Пет корака процене риз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0" y="162828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клима и осветље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е штетности: бука, вибр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хемијских штетности врши се у радној средини и на радном месту, где се у процесу рада користе, појављују или производе хемијске штет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itre 1"/>
          <p:cNvSpPr/>
          <p:nvPr/>
        </p:nvSpPr>
        <p:spPr>
          <a:xfrm>
            <a:off x="395280" y="18720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Практични де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Услови радне околине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0" y="162828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 прегледа и испитивања је да се установи да ли електрична расвета објекта у којем се обавља рад испуњава критеријуме безбедности за рад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ште, локално и допунско осветљењ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боскопски ефекат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itre 1"/>
          <p:cNvSpPr/>
          <p:nvPr/>
        </p:nvSpPr>
        <p:spPr>
          <a:xfrm>
            <a:off x="395280" y="18720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Осветљење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9280" y="642960"/>
            <a:ext cx="828036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ропометријски</a:t>
            </a:r>
            <a:r>
              <a:rPr b="0" lang="nb-N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 и разво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турални 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(телесна висина-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дерални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 (телесна маса-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т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грудног кош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6000">
    <p:push dir="r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0" y="1916280"/>
            <a:ext cx="9144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а је сваки звук, чији ниво измерен на радном месту или у радној просторији прелази дозвољену вреднос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а је звук који смета, замара, узнемирав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мета функције појединих органа (слух, органе за варење, психичке сметње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itre 1"/>
          <p:cNvSpPr/>
          <p:nvPr/>
        </p:nvSpPr>
        <p:spPr>
          <a:xfrm>
            <a:off x="395280" y="18720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Бука у радној средини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-360" y="1500120"/>
            <a:ext cx="8715240" cy="50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ане вибрациј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местима где вибрирају додирне површине оруђа за рад, на радним површинама, подовима и алатима на којима се појављују вибрације и са којима је радник у контакту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itre 1"/>
          <p:cNvSpPr/>
          <p:nvPr/>
        </p:nvSpPr>
        <p:spPr>
          <a:xfrm>
            <a:off x="395280" y="18720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Вибрације у радној средини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0" y="162828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варење п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љних услова радне средине омогућава рад у оптималним условима, што се повољно одражава на здравље радника као и на његове радне способ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дређеним радним местима постоји ризик од настанка професионалних обољ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600" spc="-1" strike="noStrike">
                <a:solidFill>
                  <a:srgbClr val="000000"/>
                </a:solidFill>
                <a:latin typeface="Times New Roman"/>
              </a:rPr>
              <a:t>Кесонска болес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Кесонска болест настаје при наглом преласку из средине са повећаним у средину са нормалним барометарским притиск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ож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ти услед 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наглог израњања рониоца и подморница као и при брзој декомпресији радника који раде у кесонима по чему је обољење и добило име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и облиц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›  </a:t>
            </a:r>
            <a:r>
              <a:rPr b="0" i="1" lang="vi-V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И ОБЛИЦИ ПРЕМА ЛОКАЛИЗАЦИЈИ ПРОМЕ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ожни облик (најлакши облик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стео-мио-артикуларни облик (најчешћи облик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аралитички обли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ардиопулмонални облик (најтежи облик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›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И ОБЛИЦИ ПРЕМА НАСТАНКУ И ТОКУ БОЛЕСТ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еракутни облик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Акутни обли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Хронични обли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инска болест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инска болест настаје при постепеном пењању на велике надморске висине (најчеше обољевају пилоти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и висинске болести настају као последица хипоксије услед смањења pО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у удахнутом ваздуху, због смањења атмосферског притиска на већим висинам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инска болест клинички може да се манифестује као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кутна висинска болес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исински плућни еде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исинска плућна хипертензиј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Хронична висинска болест плућ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е за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е од измењеног барометарског притиск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гијенске мере заштит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е мере зашти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тивни здравствени прегле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давно административне ме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611280" y="692280"/>
            <a:ext cx="79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9280" y="-360"/>
            <a:ext cx="828036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</a:t>
            </a:r>
            <a:r>
              <a:rPr b="1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урални раст</a:t>
            </a:r>
            <a:r>
              <a:rPr b="0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телесна висина-ТВ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 људског живота постоје само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ог раста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рођења до 2 </a:t>
            </a:r>
            <a:r>
              <a:rPr b="0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е живот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епубертету</a:t>
            </a:r>
            <a:r>
              <a:rPr b="1" lang="sr-Latn-R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а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јчице</a:t>
            </a:r>
            <a:r>
              <a:rPr b="0" lang="sr-Latn-R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Latn-R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а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чаци</a:t>
            </a:r>
            <a:r>
              <a:rPr b="0" lang="sr-Latn-R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ђу ових фаза је фаза интермедијарног спорог раста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се завршава између 21 и 25 године живо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 је изражен ле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</a:t>
            </a:r>
            <a:r>
              <a:rPr b="1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дерални раст </a:t>
            </a:r>
            <a:r>
              <a:rPr b="0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елесна маса-ТТ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дерални раст прати статурални рас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ећи у апсолутним вредностима је између 13 и 16 годин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 је изражен зи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</a:t>
            </a:r>
            <a:r>
              <a:rPr b="1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 грудног кош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дни кош до пубертета расте спорије од бисте,  у пубертету и касније расте прогресивно са растом бист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87000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2T07:49:33Z</dcterms:created>
  <dc:creator>Windows User</dc:creator>
  <dc:description/>
  <dc:language>en-US</dc:language>
  <cp:lastModifiedBy>Maja</cp:lastModifiedBy>
  <dcterms:modified xsi:type="dcterms:W3CDTF">2023-09-01T19:31:40Z</dcterms:modified>
  <cp:revision>98</cp:revision>
  <dc:subject/>
  <dc:title>Slide 1</dc:title>
</cp:coreProperties>
</file>